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1CE-EE80-44B4-A519-6A43B460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F7C-B511-452C-A0C5-380190D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ABF-21DB-4721-A7C4-6A6B1315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775-5AEE-414F-B54B-F05B768A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0CEC-56D0-46E5-B1D6-8D8052C4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E755-A4A9-4537-A1DF-886222D4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581E-D215-4003-9F3C-BE4BEC92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01EF-B55B-4003-8C36-920B6874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2F72-823C-45AB-B9BF-A667B4A3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7C3D-BAC8-4F72-B485-D6FE264A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CEEB-DC2C-43B9-9DD5-22FBA5B4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DDB-2A4E-44BA-ADEB-D3962461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919A-4740-4040-8E65-34CB09E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506B-C632-4221-9A1F-DF50E28B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5DF0-2064-4781-9E31-9AE95235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F52-BA0B-4DB3-A7E4-1B46F507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F4B5-34A2-4177-B743-19350F7D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43F-5499-4BF8-8043-8C95F8C5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02A-C110-4AA9-8825-F271054E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B64-6EEE-47DF-890E-4C8E6513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B0F-FA9B-4502-AF4F-C0431FE3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907-224E-4F3F-AB16-44AEB50E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AAA-7181-4FCB-8150-35F6B1FB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F05-9467-4E2C-B9E9-C3E7EBED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C4DB-4E51-4889-94D7-01CB58DDDE26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578-F0B4-4452-9032-F5F06529B042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67D5-4700-47AA-AA61-39A7741EA7B5}" type="datetime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89A5-1F6E-4F26-AF5D-A71D26D651EE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42A0-8468-423E-B96A-A2BCBC290D67}" type="datetime">
              <a:rPr b="0" lang="it-IT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B439-06D4-4401-B5D6-CEC6B1A05AFF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26s_sfondo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576680" y="6296040"/>
            <a:ext cx="266220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Trebuchet MS"/>
              </a:rPr>
              <a:t>Prague, 21 Aprile 2008</a:t>
            </a:r>
            <a:r>
              <a:rPr b="1" lang="it-IT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670280" y="635940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71640" y="0"/>
            <a:ext cx="698508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e3f8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399"/>
                </a:solidFill>
                <a:latin typeface="Arial"/>
              </a:rPr>
              <a:t>La cooperazione Università impre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Times New Roman"/>
              </a:rPr>
              <a:t>Alessandro D’At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Times New Roman"/>
              </a:rPr>
              <a:t>datri@luiss.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CERSI – LUISS Guido Carli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82600" y="3240"/>
            <a:ext cx="2765520" cy="6858000"/>
          </a:xfrm>
          <a:prstGeom prst="rect">
            <a:avLst/>
          </a:prstGeom>
          <a:solidFill>
            <a:srgbClr val="0033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logoluiss_facolta"/>
          <p:cNvPicPr/>
          <p:nvPr/>
        </p:nvPicPr>
        <p:blipFill>
          <a:blip r:embed="rId2"/>
          <a:stretch/>
        </p:blipFill>
        <p:spPr>
          <a:xfrm>
            <a:off x="279360" y="349200"/>
            <a:ext cx="27558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Il contesto attuale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1080" y="1676520"/>
            <a:ext cx="759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gli ultimi 10 anni lo sviluppo della società della conoscenza ha implicato un importante cambio nei processi di innovazione con un incremento di progetti ed attività di ricerca cooperativa e lo scambio di conoscenze e di proprietà intellettuale, (European Commission, 2007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questo nuovo contesto  caratterizzato da una sorta di “open innovation” le Università e  gli altri organismi di ricerca giocano un ruolo  chiave nel trasferimento di conoscenze e di risultati innovativi (Perkmann &amp; Walsh, 2007; Sansonetti &amp; D’Atri, 2009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LOGOLUISS-SECONDA"/>
          <p:cNvPicPr/>
          <p:nvPr/>
        </p:nvPicPr>
        <p:blipFill>
          <a:blip r:embed="rId1"/>
          <a:stretch/>
        </p:blipFill>
        <p:spPr>
          <a:xfrm>
            <a:off x="0" y="0"/>
            <a:ext cx="685800" cy="885960"/>
          </a:xfrm>
          <a:prstGeom prst="rect">
            <a:avLst/>
          </a:prstGeom>
          <a:ln w="0">
            <a:noFill/>
          </a:ln>
        </p:spPr>
      </p:pic>
      <p:sp>
        <p:nvSpPr>
          <p:cNvPr id="104" name="Segnaposto data 4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228D-6CBF-4DFE-8156-D24BC89FEB29}" type="datetime">
              <a:rPr b="0" lang="it-IT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egnaposto piè di pagina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Alessandro D’Atri                                          CeRSI-LUI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egnaposto numero diapositiva 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5CE5-5CB5-493D-9780-C26D6A1F2A5D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Times New Roman"/>
              </a:rPr>
              <a:t>Il quadro Europeo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720" y="1881360"/>
            <a:ext cx="7485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livello Europeo il principale problema è la trasformazione dei risultati della ricerca in nuovi prodotti più che la produzione scientifica (Chiesa &amp; Piccaluga, 2000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la Commissione Europea un importante problema è come migliorare  l’uso dei fondi pubblici destinati alla ricerca considerato che rispetto agli Stati Uniti la media e delle Università Europee genera un numero minore di invenzioni e di brevetti  .(European Commission, 200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coerenza, con l’orientamento comunitario è opportuno individuare politiche e strumenti  più efficaci  per promuovere la disseminazione e lo sfruttamento dei risultati della ricerca al fine di accrescere i meccanismi di trasferimento tecnologico ed i processi di innov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LOGOLUISS-SECONDA"/>
          <p:cNvPicPr/>
          <p:nvPr/>
        </p:nvPicPr>
        <p:blipFill>
          <a:blip r:embed="rId1"/>
          <a:stretch/>
        </p:blipFill>
        <p:spPr>
          <a:xfrm>
            <a:off x="0" y="0"/>
            <a:ext cx="685800" cy="885960"/>
          </a:xfrm>
          <a:prstGeom prst="rect">
            <a:avLst/>
          </a:prstGeom>
          <a:ln w="0">
            <a:noFill/>
          </a:ln>
        </p:spPr>
      </p:pic>
      <p:sp>
        <p:nvSpPr>
          <p:cNvPr id="110" name="Segnaposto data 4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244-5143-406B-9E5B-CDE3EC3347C3}" type="datetime">
              <a:rPr b="0" lang="it-IT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egnaposto piè di pagina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Alessandro D’Atri                                          CeRSI-LUI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egnaposto numero diapositiva 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1559-1BCA-459C-9BFF-0DBBB2F339DA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I risultati </a:t>
            </a:r>
            <a:r>
              <a:rPr b="0" i="1" lang="en-GB" sz="4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ProTon Europe 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9320" y="1530360"/>
            <a:ext cx="74563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egnaposto data 4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753-17B2-404E-8039-1FE1E80DF9ED}" type="datetime">
              <a:rPr b="0" lang="it-IT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egnaposto piè di pagina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egnaposto numero diapositiva 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E597-B5B1-40C1-BB90-81D43CEAAE1E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811080" y="1530360"/>
            <a:ext cx="7850160" cy="507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LOGOLUISS-SECONDA"/>
          <p:cNvPicPr/>
          <p:nvPr/>
        </p:nvPicPr>
        <p:blipFill>
          <a:blip r:embed="rId2"/>
          <a:stretch/>
        </p:blipFill>
        <p:spPr>
          <a:xfrm>
            <a:off x="0" y="0"/>
            <a:ext cx="685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45E4-63EF-4756-84D0-34AC43A34479}" type="datetime">
              <a:rPr b="0" lang="it-IT" sz="1000" spc="-1" strike="noStrike">
                <a:solidFill>
                  <a:srgbClr val="ffffff"/>
                </a:solidFill>
                <a:latin typeface="Arial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egnaposto piè di pagina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Angela Sansonetti                                          CeRSI-LUI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egnaposto numero diapositiva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66B0-42BA-4058-9842-8F5A472865AB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84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fffff"/>
                </a:solidFill>
                <a:latin typeface="Arial"/>
              </a:rPr>
              <a:t>Transfer Knowledge</a:t>
            </a:r>
            <a:endParaRPr b="0" lang="en-US" sz="36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124" name="Diagramma 6" descr=""/>
          <p:cNvPicPr/>
          <p:nvPr/>
        </p:nvPicPr>
        <p:blipFill>
          <a:blip r:embed="rId1"/>
          <a:stretch/>
        </p:blipFill>
        <p:spPr>
          <a:xfrm>
            <a:off x="920880" y="1968480"/>
            <a:ext cx="75466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_SFIDA</dc:creator>
  <dc:description/>
  <dc:language>en-US</dc:language>
  <cp:lastModifiedBy>Angela Sansonetti</cp:lastModifiedBy>
  <dcterms:modified xsi:type="dcterms:W3CDTF">2009-06-10T13:01:12Z</dcterms:modified>
  <cp:revision>2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  <property fmtid="{D5CDD505-2E9C-101B-9397-08002B2CF9AE}" pid="4" name="_AdHocReviewCycleID">
    <vt:r8>1660364554</vt:r8>
  </property>
  <property fmtid="{D5CDD505-2E9C-101B-9397-08002B2CF9AE}" pid="5" name="_AuthorEmail">
    <vt:lpwstr>guida@cndcec.it</vt:lpwstr>
  </property>
  <property fmtid="{D5CDD505-2E9C-101B-9397-08002B2CF9AE}" pid="6" name="_AuthorEmailDisplayName">
    <vt:lpwstr>Guida Marianna</vt:lpwstr>
  </property>
  <property fmtid="{D5CDD505-2E9C-101B-9397-08002B2CF9AE}" pid="7" name="_EmailSubject">
    <vt:lpwstr>ATTI Convegno 10 giugno LUISS - 1/2</vt:lpwstr>
  </property>
</Properties>
</file>